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explode.wav" ContentType="audio/x-wav"/>
  <Override PartName="/ppt/media/image8.png" ContentType="image/png"/>
  <Override PartName="/ppt/media/image14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458-60B9-4368-A113-8199FC5A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084-E6C1-47D7-815D-E9C6EB3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1E78-CF3F-436B-8D69-BE94D94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1CF50-8CC5-4ACD-AA2C-5809F6E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2850-00FC-4DEC-8EFB-C02D09FD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06CC9-FB65-48DD-A9CD-3F1CB52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36AF6-FC55-4498-A714-BE6E470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C236-73C5-4C6B-AB37-0389FB7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DF7FC-9652-4EE1-A5BB-8DFDF59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68A9D-21B1-4382-B4FF-7E72F9FD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2CF9A-D86C-42AD-9A60-EEB7FDE8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D2CB-5618-4760-B892-4C7AFD6B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3B6-4C48-418F-97AB-70B57304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51772-4A5C-4E34-97D2-A26DEFA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AF75-EC30-426A-89CD-E4D18CE6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120F6-847C-4024-81DE-F5213522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1FB29-D2C5-4386-8EDA-31318B3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E79F2-F4A8-4C00-8B94-A50CFFED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AF553-DF2D-40F2-868D-C6660EA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23EC1-EEF9-4DD8-84B8-6C19E3F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1879D-F396-48CF-8DA6-47C2A49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B5B5A-28E5-43C7-B479-AF23BC0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066CA-BE49-4544-AACD-290D438C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893-F093-4F18-96E1-50CC946C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6731E-3CFB-4B78-996E-2164E28C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261A-4FF9-4B96-9084-0DCD15F3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4CEA-5F60-4EF7-B244-A5D8EF9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268A0-8C32-486D-8B66-ECC8717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C82F7-F6F2-480F-A9B0-33DA6865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4C832-D309-4655-AFD5-483F504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96F07-B15C-4096-8021-359ACAD6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2E13-FDC8-4B5D-AAC2-A988719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18D2B-6D77-4CF1-B870-3D65602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25442-0112-4E44-9B4C-F6F2F7F6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BDD-977F-4189-87ED-D6F5128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65256-C958-4EF1-ADA9-0B19E051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8DFCE-47B9-48DC-8EFD-BD257D6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132F-9421-430A-8CAB-EA67694E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766F5-61D7-41B3-9DE8-175B84D0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CB303-B36D-4F65-A10D-73EC9A89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9549-085B-471E-A6C2-04D8F9C3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B1CE1-48A7-4EDA-A0DD-DAC7CA8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CAC15-A518-43A8-AFA6-048A872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2DF82-9AF6-4859-83EA-14AA1E83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C6C2E-F170-4828-A553-D409071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A1CA-66D3-4268-BFC7-00635D03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20051-3E02-45D1-9B65-B6AD708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BD7A8-CDB5-4E0C-AE5E-D626A24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0B71E-2AC6-4DA2-A0E0-4E949726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E51F3-368C-4AB4-8790-6079E9A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0506D-E4D4-4973-B324-7440F9B5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142ED-7E1F-415A-B020-854C1579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995BD-9635-4651-8A8B-5EEF649F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92A4C-7CE0-4DFD-8611-6F9ECA7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C8CB5-A100-45FC-AC74-6FD6212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ECAF0-202E-48EA-90AA-8CE5CA9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DDEE-E11C-4A7B-AC14-C4F6524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DE0DF-FCCF-4DC3-A163-ABC9646D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8620A-DE93-45DE-AC38-074D1AD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FAB4E-B29C-45E0-9033-24A8481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1B9C3-CD57-4C6F-9528-FB01AE3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B5627-6310-4DAF-B979-4D1C7D7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AA265-4967-4DC6-9CA0-ACA0B7A7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8AAFD-00D8-4B66-AE94-4639336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ED57-CD2C-42B6-8A37-2C1DD4D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96B-6AA8-4084-A8F6-F9600ED1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D44B-FA55-4794-A980-069F678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0E04-D03C-4745-8D5C-02805A5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F25-5776-433D-8344-308F8EB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405-AD93-4408-9391-53C872F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F9D-3AA5-4DA5-94FC-7925427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8DA-0D92-48C2-8C28-B17F30B2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E806-7DEE-46B5-908F-6189089B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30F6-BAAB-4795-95CE-EF5B8A2B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EB49-8824-42E5-AB50-6825D22B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44A0-6DE0-4DAA-BFA2-933323E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898E-35BD-40C5-B24C-C080D2D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0C2D-CAE7-45E7-AA37-2C795F2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3D23-049F-4C18-8B07-BE1E0FD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A91-8005-4DC2-B6D2-528DEA6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02C1-60F9-4652-8336-9B999CA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8FFC-6015-4799-9804-3B670EB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B91F-E95B-48FD-98C2-E7507E8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F528-3D7E-43CF-A33F-3931E74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AAF8-7FC7-4E8E-84FD-E1D493D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1600-F046-44A9-B69E-A996DE35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A3ED-383A-47C6-B007-DDDBE2FA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110F-EEE8-43C2-B492-BE7AA3B9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AF80-D541-4686-B47C-818C105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19FF-0062-4024-BBEC-4784D832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363-8CAF-468E-BA9A-CC8E7B9F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85E5-A221-46C1-B389-3A95410B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BE4E-284B-44EC-9E72-C7D82F8A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7173-35ED-4118-909F-C9BBC654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4666-63AC-4497-A440-4DFEA7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1D2A-3C3D-4D7C-91CD-DCA3FA5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6A96-4F77-436A-9314-BE2C212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9790-86D4-45C1-B20E-578BE2D2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4756-99E3-4419-9FB4-4684B359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6416-9C62-4139-9130-F77AFFF1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F1EE-88D4-4E63-9FF7-3D39A8DD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E41-E4A1-4A9F-A73C-E0723E8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65C6-7FD6-4F43-B9B4-E92D188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15B8-C9D6-4B0E-938A-CCB9F320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68F9-8237-4720-9B78-2F4C8443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73F2-EC82-4839-BA82-D051C6D4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B92C-2705-4FD1-B1CC-175CE31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B8AC-D822-472C-A722-79C96BF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BCF8-47BE-4C3B-8890-E882D73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8EA4-F226-4830-A2D1-259B7DF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8926-8671-4924-BB1A-C0EA6DD2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DEA7-B23C-419A-B2C0-09F8647B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7DE-019C-4651-8DA8-B8F0C2C8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545D-BE57-4E7A-A97C-0E4B48F7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1A83-FB87-4122-9B3A-9515609F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9114-0EA2-4069-9C21-5177875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53AC-63CB-4740-A633-209362D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7028-5734-403C-8E86-EA328929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F3543-B694-4E91-A35F-3BFD6EA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E405-2649-4C51-88A2-DC586D4C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E6F3-2A44-4DCB-A6D2-AE5B3B7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0CE49-1E91-4D74-8A30-A7DAD865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56C8-77ED-4407-AC22-328C0330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2CA-09EF-4ADE-9D3F-5D243A0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DFD3-52F4-4B63-812D-6FF919EA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80F2-8832-4DFD-A42D-352F6FE5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E810-D9F1-4615-AB08-688C8B83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BF3F-863F-4AFA-A5C9-6164E3F4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D9A7-C6F4-4887-B657-50428BB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889AB-67B8-4F89-BD44-32F1976F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7514-0DBD-40EE-BCE3-AB816DB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E32AB-CDAF-4B4F-A64D-8689E1E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F6A8-2A28-4F3B-B1E1-2A8C8D3D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082F-95B8-4DEE-82B1-6B1617F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5F8-1B4B-43AC-B813-8FF1F63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28D4-E7FC-4D40-8AA6-296B50D1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EFB0-4342-46BE-BF7D-251D499B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9682-730E-4734-BEE7-C182C970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6A101-D83C-4015-AC9F-46B7CDDC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E02D-8310-48E3-A7AD-8DE6B7C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0BF5-2E98-40E2-9D0C-F1D1D24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8B486-A228-4117-B49A-DB0FC6E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E948-42EF-4B57-A8AB-FCEFAFC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00CC-F7BA-4F5A-A437-3CADCFB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272E-29F3-4EBB-A0E1-E2A6CBD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81B-0E64-46C1-A59A-757A58A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4DAE-02FB-415D-9D6D-FC888BDF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FB34-1522-45E4-B296-D61F851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3098F-B09C-4B53-9775-0562AA1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DC11-AE50-483D-9F7B-BAA9763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6113-AF0D-49E0-9A5F-D715028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94C6-DED7-4D59-ADCD-8F37E184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60CD-F480-4F38-995F-B0C54EF9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21738-AF7F-4083-94A6-CD19648F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E194C-FE87-440C-8780-76A92D6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80882-DD2E-4B2E-A4C0-DC173EC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686-7E3F-4874-9BC9-6ABB36B7486F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4FE6-3082-407B-A77E-55CBC6DE323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9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4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4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1E7-DF20-4E28-85DD-65ABF52AE2E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4D4-58EA-4F0B-80AC-FEDC2635BFB2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9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498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BCA-0402-40A2-A5AD-DF5A3854DE8C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E3C-4955-4680-B1C5-223B85B7AE01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4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4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200-887B-414F-A50C-E8C0E61B1A17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F96D-3AB2-48E7-B1EC-924EC0CE0F7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8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92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992-378B-4D02-AE06-68BB67AD31E4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384-314A-4C20-876C-E7AAFC8D904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矩形 8"/>
          <p:cNvGrpSpPr/>
          <p:nvPr/>
        </p:nvGrpSpPr>
        <p:grpSpPr>
          <a:xfrm>
            <a:off x="682560" y="3187800"/>
            <a:ext cx="7785000" cy="31680"/>
            <a:chOff x="682560" y="3187800"/>
            <a:chExt cx="7785000" cy="31680"/>
          </a:xfrm>
        </p:grpSpPr>
        <p:pic>
          <p:nvPicPr>
            <p:cNvPr id="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87800"/>
              <a:ext cx="77850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3197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C2D-FB49-4139-9BD4-AABAEE9CB162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C7E-EB6A-4664-9DAE-A2E6BE94EFF6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1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5EB-A2E1-4426-852B-D314D451482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B39-CFEE-4992-B1E5-F615FF61112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矩形 8"/>
          <p:cNvGrpSpPr/>
          <p:nvPr/>
        </p:nvGrpSpPr>
        <p:grpSpPr>
          <a:xfrm>
            <a:off x="682560" y="3139920"/>
            <a:ext cx="7785000" cy="24120"/>
            <a:chOff x="682560" y="3139920"/>
            <a:chExt cx="7785000" cy="24120"/>
          </a:xfrm>
        </p:grpSpPr>
        <p:pic>
          <p:nvPicPr>
            <p:cNvPr id="1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39920"/>
              <a:ext cx="778500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3143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DB6-C2F1-471E-BAD7-2C4D7A749AEC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A1E-5972-4AB9-879E-F5E60F3A3CC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0615-7381-4134-A96A-AE3F519DFC2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912-2914-418F-8519-CC640DB8C3D9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5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D50-5FBC-479C-BDCD-F664982E6B0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89D-0740-4791-8109-23D50F236D9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3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3E32-E528-427A-9A90-940E3CD97FD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B0C-B1BD-438A-AB11-4F1D7CA250B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4E7-E57F-4289-BDC3-F4716E545477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A61-5A5C-4E88-B758-313BA4A71E3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9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9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矩形 8"/>
          <p:cNvGrpSpPr/>
          <p:nvPr/>
        </p:nvGrpSpPr>
        <p:grpSpPr>
          <a:xfrm>
            <a:off x="2779560" y="1047600"/>
            <a:ext cx="5919840" cy="32040"/>
            <a:chOff x="2779560" y="1047600"/>
            <a:chExt cx="5919840" cy="32040"/>
          </a:xfrm>
        </p:grpSpPr>
        <p:pic>
          <p:nvPicPr>
            <p:cNvPr id="401" name="矩形 8" descr=""/>
            <p:cNvPicPr/>
            <p:nvPr/>
          </p:nvPicPr>
          <p:blipFill>
            <a:blip r:embed="rId5"/>
            <a:stretch/>
          </p:blipFill>
          <p:spPr>
            <a:xfrm>
              <a:off x="2779560" y="1047600"/>
              <a:ext cx="5919840" cy="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786040" y="1054080"/>
              <a:ext cx="59040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AE7-9B9D-4265-A901-AE915B446BEB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8DCE-D890-46DE-A2E1-4AC322159A9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WordArt 2" descr="weave"/>
          <p:cNvPicPr/>
          <p:nvPr/>
        </p:nvPicPr>
        <p:blipFill>
          <a:blip r:embed="rId2"/>
          <a:stretch/>
        </p:blipFill>
        <p:spPr>
          <a:xfrm>
            <a:off x="-19080" y="311040"/>
            <a:ext cx="4651560" cy="554040"/>
          </a:xfrm>
          <a:prstGeom prst="rect">
            <a:avLst/>
          </a:prstGeom>
          <a:ln w="0">
            <a:noFill/>
          </a:ln>
        </p:spPr>
      </p:pic>
      <p:pic>
        <p:nvPicPr>
          <p:cNvPr id="636" name="WordArt 4" descr="weave"/>
          <p:cNvPicPr/>
          <p:nvPr/>
        </p:nvPicPr>
        <p:blipFill>
          <a:blip r:embed="rId3"/>
          <a:stretch/>
        </p:blipFill>
        <p:spPr>
          <a:xfrm>
            <a:off x="3614760" y="5138640"/>
            <a:ext cx="4657680" cy="55584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5"/>
          <p:cNvGrpSpPr/>
          <p:nvPr/>
        </p:nvGrpSpPr>
        <p:grpSpPr>
          <a:xfrm>
            <a:off x="1295280" y="1676520"/>
            <a:ext cx="6705720" cy="2666520"/>
            <a:chOff x="1295280" y="1676520"/>
            <a:chExt cx="6705720" cy="2666520"/>
          </a:xfrm>
        </p:grpSpPr>
        <p:sp>
          <p:nvSpPr>
            <p:cNvPr id="638" name="WordArt 6"/>
            <p:cNvSpPr txBox="1"/>
            <p:nvPr/>
          </p:nvSpPr>
          <p:spPr>
            <a:xfrm>
              <a:off x="1295280" y="3232440"/>
              <a:ext cx="6705720" cy="111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预防溺水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39" name="WordArt 7"/>
            <p:cNvSpPr txBox="1"/>
            <p:nvPr/>
          </p:nvSpPr>
          <p:spPr>
            <a:xfrm>
              <a:off x="2425320" y="1676520"/>
              <a:ext cx="4520520" cy="111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珍爱生命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3" name="Picture 5" descr="W020080623299445486399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371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2945520" y="5715000"/>
            <a:ext cx="35928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吞噬生命的池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 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6" name="Picture 6" descr="20080726072955351"/>
          <p:cNvPicPr/>
          <p:nvPr/>
        </p:nvPicPr>
        <p:blipFill>
          <a:blip r:embed="rId1"/>
          <a:stretch/>
        </p:blipFill>
        <p:spPr>
          <a:xfrm>
            <a:off x="898560" y="907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人悲痛欲绝，欲哭无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Medium"/>
              </a:rPr>
              <a:t>因溺水悲剧后造成的亲人悲痛欲绝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9" name="Picture 3" descr="1946283[1]"/>
          <p:cNvPicPr/>
          <p:nvPr/>
        </p:nvPicPr>
        <p:blipFill>
          <a:blip r:embed="rId1"/>
          <a:stretch/>
        </p:blipFill>
        <p:spPr>
          <a:xfrm>
            <a:off x="285840" y="928800"/>
            <a:ext cx="84866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1" name="Picture 4" descr="2010719223017839"/>
          <p:cNvPicPr/>
          <p:nvPr/>
        </p:nvPicPr>
        <p:blipFill>
          <a:blip r:embed="rId1"/>
          <a:stretch/>
        </p:blipFill>
        <p:spPr>
          <a:xfrm>
            <a:off x="214200" y="428760"/>
            <a:ext cx="8572680" cy="5707080"/>
          </a:xfrm>
          <a:prstGeom prst="rect">
            <a:avLst/>
          </a:prstGeom>
          <a:ln w="0">
            <a:noFill/>
          </a:ln>
        </p:spPr>
      </p:pic>
      <p:sp>
        <p:nvSpPr>
          <p:cNvPr id="672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7A21-EC57-44EE-8887-51421F000A2F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6" name="Picture 4" descr="00219b66746a0bd895b755"/>
          <p:cNvPicPr/>
          <p:nvPr/>
        </p:nvPicPr>
        <p:blipFill>
          <a:blip r:embed="rId1"/>
          <a:stretch/>
        </p:blipFill>
        <p:spPr>
          <a:xfrm>
            <a:off x="928800" y="214200"/>
            <a:ext cx="7485120" cy="6357960"/>
          </a:xfrm>
          <a:prstGeom prst="rect">
            <a:avLst/>
          </a:prstGeom>
          <a:ln w="0">
            <a:noFill/>
          </a:ln>
        </p:spPr>
      </p:pic>
      <p:sp>
        <p:nvSpPr>
          <p:cNvPr id="677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1C5-5E0E-4E9B-9ED6-9365BB22999B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除了伤心和无奈，还能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……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?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9" name="Picture 5" descr="U43P4T8D945784F116DT20070529134207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89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看了这些图片，我想在座的每一位同学心里都不会感到轻松。你是否感叹，是否惋惜，一个个年轻的生命就这样在世界上转瞬消失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此刻，你在想什么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请同学谈谈你的看法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如何防止溺水悲剧的产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6200" y="2636640"/>
            <a:ext cx="83934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私自下水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无安全设施、无救援人员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不熟悉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熟悉水性的学生不擅自下水施救。尤其要教育孩子遇到同伴溺水时避免手拉手盲目施救，要智慧救援，立即寻求成人帮助。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466560" y="1411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要严格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内容占位符 9" descr="沟.jpg"/>
          <p:cNvPicPr/>
          <p:nvPr/>
        </p:nvPicPr>
        <p:blipFill>
          <a:blip r:embed="rId1"/>
          <a:stretch/>
        </p:blipFill>
        <p:spPr>
          <a:xfrm>
            <a:off x="4500720" y="350028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68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30C-FA61-490C-9634-6D2563C7DA6D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图片 5" descr="鱼塘.jpg"/>
          <p:cNvPicPr/>
          <p:nvPr/>
        </p:nvPicPr>
        <p:blipFill>
          <a:blip r:embed="rId2"/>
          <a:stretch/>
        </p:blipFill>
        <p:spPr>
          <a:xfrm>
            <a:off x="428760" y="357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6" descr="河.jpg"/>
          <p:cNvPicPr/>
          <p:nvPr/>
        </p:nvPicPr>
        <p:blipFill>
          <a:blip r:embed="rId3"/>
          <a:stretch/>
        </p:blipFill>
        <p:spPr>
          <a:xfrm>
            <a:off x="4500720" y="357120"/>
            <a:ext cx="3929040" cy="290520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7" descr="江.jpg"/>
          <p:cNvPicPr/>
          <p:nvPr/>
        </p:nvPicPr>
        <p:blipFill>
          <a:blip r:embed="rId4"/>
          <a:stretch/>
        </p:blipFill>
        <p:spPr>
          <a:xfrm>
            <a:off x="428760" y="3500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689" name="Ink 2"/>
          <p:cNvSpPr/>
          <p:nvPr/>
        </p:nvSpPr>
        <p:spPr>
          <a:xfrm>
            <a:off x="2732040" y="2384280"/>
            <a:ext cx="1260360" cy="795600"/>
          </a:xfrm>
          <a:custGeom>
            <a:avLst/>
            <a:gdLst>
              <a:gd name="textAreaLeft" fmla="*/ 0 w 1260360"/>
              <a:gd name="textAreaRight" fmla="*/ 1260360 w 1260360"/>
              <a:gd name="textAreaTop" fmla="*/ 0 h 795600"/>
              <a:gd name="textAreaBottom" fmla="*/ 795960 h 795600"/>
            </a:gdLst>
            <a:ahLst/>
            <a:rect l="textAreaLeft" t="textAreaTop" r="textAreaRight" b="textAreaBottom"/>
            <a:pathLst>
              <a:path w="3499" h="2208">
                <a:moveTo>
                  <a:pt x="3126" y="397"/>
                </a:moveTo>
                <a:cubicBezTo>
                  <a:pt x="3080" y="431"/>
                  <a:pt x="3072" y="428"/>
                  <a:pt x="3026" y="446"/>
                </a:cubicBezTo>
                <a:cubicBezTo>
                  <a:pt x="2966" y="469"/>
                  <a:pt x="2948" y="528"/>
                  <a:pt x="2878" y="570"/>
                </a:cubicBezTo>
                <a:cubicBezTo>
                  <a:pt x="2769" y="636"/>
                  <a:pt x="2718" y="709"/>
                  <a:pt x="2654" y="818"/>
                </a:cubicBezTo>
                <a:cubicBezTo>
                  <a:pt x="2571" y="958"/>
                  <a:pt x="2461" y="1002"/>
                  <a:pt x="2357" y="1116"/>
                </a:cubicBezTo>
                <a:cubicBezTo>
                  <a:pt x="2327" y="1148"/>
                  <a:pt x="2271" y="1219"/>
                  <a:pt x="2257" y="1240"/>
                </a:cubicBezTo>
                <a:cubicBezTo>
                  <a:pt x="2217" y="1301"/>
                  <a:pt x="2171" y="1329"/>
                  <a:pt x="2109" y="1389"/>
                </a:cubicBezTo>
                <a:cubicBezTo>
                  <a:pt x="1997" y="1496"/>
                  <a:pt x="1892" y="1602"/>
                  <a:pt x="1761" y="1687"/>
                </a:cubicBezTo>
                <a:cubicBezTo>
                  <a:pt x="1718" y="1708"/>
                  <a:pt x="1706" y="1712"/>
                  <a:pt x="1687" y="1736"/>
                </a:cubicBezTo>
              </a:path>
              <a:path w="3499" h="2208">
                <a:moveTo>
                  <a:pt x="2034" y="595"/>
                </a:moveTo>
                <a:cubicBezTo>
                  <a:pt x="2114" y="606"/>
                  <a:pt x="2073" y="619"/>
                  <a:pt x="2133" y="670"/>
                </a:cubicBezTo>
                <a:cubicBezTo>
                  <a:pt x="2217" y="742"/>
                  <a:pt x="2165" y="759"/>
                  <a:pt x="2233" y="843"/>
                </a:cubicBezTo>
                <a:cubicBezTo>
                  <a:pt x="2269" y="888"/>
                  <a:pt x="2366" y="935"/>
                  <a:pt x="2406" y="967"/>
                </a:cubicBezTo>
                <a:cubicBezTo>
                  <a:pt x="2466" y="1016"/>
                  <a:pt x="2439" y="1026"/>
                  <a:pt x="2456" y="1091"/>
                </a:cubicBezTo>
                <a:cubicBezTo>
                  <a:pt x="2475" y="1163"/>
                  <a:pt x="2527" y="1207"/>
                  <a:pt x="2580" y="1265"/>
                </a:cubicBezTo>
                <a:cubicBezTo>
                  <a:pt x="2645" y="1336"/>
                  <a:pt x="2689" y="1493"/>
                  <a:pt x="2778" y="1538"/>
                </a:cubicBezTo>
                <a:cubicBezTo>
                  <a:pt x="2831" y="1564"/>
                  <a:pt x="2805" y="1540"/>
                  <a:pt x="2853" y="1587"/>
                </a:cubicBezTo>
                <a:cubicBezTo>
                  <a:pt x="2883" y="1617"/>
                  <a:pt x="2860" y="1611"/>
                  <a:pt x="2878" y="1662"/>
                </a:cubicBezTo>
                <a:cubicBezTo>
                  <a:pt x="2878" y="1690"/>
                  <a:pt x="2880" y="1700"/>
                  <a:pt x="2902" y="1711"/>
                </a:cubicBezTo>
              </a:path>
              <a:path w="3499" h="2208">
                <a:moveTo>
                  <a:pt x="3448" y="149"/>
                </a:moveTo>
                <a:cubicBezTo>
                  <a:pt x="3368" y="101"/>
                  <a:pt x="3409" y="84"/>
                  <a:pt x="3299" y="74"/>
                </a:cubicBezTo>
                <a:cubicBezTo>
                  <a:pt x="3138" y="59"/>
                  <a:pt x="3009" y="59"/>
                  <a:pt x="2853" y="25"/>
                </a:cubicBezTo>
                <a:cubicBezTo>
                  <a:pt x="2750" y="2"/>
                  <a:pt x="2662" y="2"/>
                  <a:pt x="2555" y="0"/>
                </a:cubicBezTo>
                <a:cubicBezTo>
                  <a:pt x="2330" y="-5"/>
                  <a:pt x="2106" y="-6"/>
                  <a:pt x="1885" y="25"/>
                </a:cubicBezTo>
                <a:cubicBezTo>
                  <a:pt x="1775" y="40"/>
                  <a:pt x="1534" y="59"/>
                  <a:pt x="1439" y="124"/>
                </a:cubicBezTo>
                <a:cubicBezTo>
                  <a:pt x="1355" y="182"/>
                  <a:pt x="1267" y="327"/>
                  <a:pt x="1191" y="397"/>
                </a:cubicBezTo>
                <a:cubicBezTo>
                  <a:pt x="988" y="585"/>
                  <a:pt x="769" y="747"/>
                  <a:pt x="571" y="942"/>
                </a:cubicBezTo>
                <a:cubicBezTo>
                  <a:pt x="407" y="1103"/>
                  <a:pt x="269" y="1267"/>
                  <a:pt x="149" y="1463"/>
                </a:cubicBezTo>
                <a:cubicBezTo>
                  <a:pt x="96" y="1550"/>
                  <a:pt x="88" y="1616"/>
                  <a:pt x="50" y="1711"/>
                </a:cubicBezTo>
                <a:cubicBezTo>
                  <a:pt x="8" y="1815"/>
                  <a:pt x="0" y="1818"/>
                  <a:pt x="25" y="1910"/>
                </a:cubicBezTo>
                <a:cubicBezTo>
                  <a:pt x="43" y="1977"/>
                  <a:pt x="78" y="2051"/>
                  <a:pt x="124" y="2083"/>
                </a:cubicBezTo>
                <a:cubicBezTo>
                  <a:pt x="184" y="2124"/>
                  <a:pt x="303" y="2134"/>
                  <a:pt x="372" y="2158"/>
                </a:cubicBezTo>
                <a:cubicBezTo>
                  <a:pt x="475" y="2194"/>
                  <a:pt x="536" y="2202"/>
                  <a:pt x="645" y="2207"/>
                </a:cubicBezTo>
                <a:cubicBezTo>
                  <a:pt x="751" y="2212"/>
                  <a:pt x="851" y="2207"/>
                  <a:pt x="943" y="2183"/>
                </a:cubicBezTo>
                <a:cubicBezTo>
                  <a:pt x="946" y="2182"/>
                  <a:pt x="983" y="2162"/>
                  <a:pt x="1017" y="2158"/>
                </a:cubicBezTo>
                <a:cubicBezTo>
                  <a:pt x="1272" y="2127"/>
                  <a:pt x="1567" y="2154"/>
                  <a:pt x="1811" y="2133"/>
                </a:cubicBezTo>
                <a:cubicBezTo>
                  <a:pt x="1885" y="2127"/>
                  <a:pt x="1946" y="2124"/>
                  <a:pt x="2009" y="2108"/>
                </a:cubicBezTo>
                <a:cubicBezTo>
                  <a:pt x="2056" y="2096"/>
                  <a:pt x="2049" y="2100"/>
                  <a:pt x="2084" y="2083"/>
                </a:cubicBezTo>
                <a:cubicBezTo>
                  <a:pt x="2115" y="2068"/>
                  <a:pt x="2154" y="2020"/>
                  <a:pt x="2208" y="2009"/>
                </a:cubicBezTo>
                <a:cubicBezTo>
                  <a:pt x="2296" y="1991"/>
                  <a:pt x="2391" y="1976"/>
                  <a:pt x="2481" y="1959"/>
                </a:cubicBezTo>
                <a:cubicBezTo>
                  <a:pt x="2586" y="1939"/>
                  <a:pt x="2738" y="1958"/>
                  <a:pt x="2828" y="1910"/>
                </a:cubicBezTo>
                <a:cubicBezTo>
                  <a:pt x="2859" y="1893"/>
                  <a:pt x="2931" y="1830"/>
                  <a:pt x="2952" y="1811"/>
                </a:cubicBezTo>
                <a:cubicBezTo>
                  <a:pt x="2983" y="1784"/>
                  <a:pt x="3027" y="1756"/>
                  <a:pt x="3051" y="1736"/>
                </a:cubicBezTo>
                <a:cubicBezTo>
                  <a:pt x="3081" y="1711"/>
                  <a:pt x="3107" y="1653"/>
                  <a:pt x="3126" y="1637"/>
                </a:cubicBezTo>
                <a:cubicBezTo>
                  <a:pt x="3147" y="1618"/>
                  <a:pt x="3196" y="1587"/>
                  <a:pt x="3225" y="1563"/>
                </a:cubicBezTo>
                <a:cubicBezTo>
                  <a:pt x="3262" y="1532"/>
                  <a:pt x="3273" y="1520"/>
                  <a:pt x="3299" y="1488"/>
                </a:cubicBezTo>
                <a:cubicBezTo>
                  <a:pt x="3316" y="1467"/>
                  <a:pt x="3332" y="1446"/>
                  <a:pt x="3349" y="1414"/>
                </a:cubicBezTo>
                <a:cubicBezTo>
                  <a:pt x="3362" y="1390"/>
                  <a:pt x="3368" y="1349"/>
                  <a:pt x="3374" y="1339"/>
                </a:cubicBezTo>
                <a:cubicBezTo>
                  <a:pt x="3393" y="1304"/>
                  <a:pt x="3403" y="1302"/>
                  <a:pt x="3423" y="1265"/>
                </a:cubicBezTo>
                <a:cubicBezTo>
                  <a:pt x="3445" y="1224"/>
                  <a:pt x="3489" y="1156"/>
                  <a:pt x="3498" y="1116"/>
                </a:cubicBezTo>
                <a:cubicBezTo>
                  <a:pt x="3563" y="836"/>
                  <a:pt x="3498" y="462"/>
                  <a:pt x="3498" y="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Ink 3"/>
          <p:cNvSpPr/>
          <p:nvPr/>
        </p:nvSpPr>
        <p:spPr>
          <a:xfrm>
            <a:off x="7572240" y="5392800"/>
            <a:ext cx="758880" cy="99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10" h="2754">
                <a:moveTo>
                  <a:pt x="100" y="1067"/>
                </a:moveTo>
                <a:cubicBezTo>
                  <a:pt x="131" y="1102"/>
                  <a:pt x="182" y="1170"/>
                  <a:pt x="224" y="1215"/>
                </a:cubicBezTo>
                <a:cubicBezTo>
                  <a:pt x="280" y="1275"/>
                  <a:pt x="304" y="1356"/>
                  <a:pt x="348" y="1414"/>
                </a:cubicBezTo>
                <a:cubicBezTo>
                  <a:pt x="385" y="1462"/>
                  <a:pt x="372" y="1495"/>
                  <a:pt x="397" y="1538"/>
                </a:cubicBezTo>
                <a:cubicBezTo>
                  <a:pt x="417" y="1574"/>
                  <a:pt x="573" y="1769"/>
                  <a:pt x="596" y="1786"/>
                </a:cubicBezTo>
                <a:cubicBezTo>
                  <a:pt x="611" y="1797"/>
                  <a:pt x="652" y="1779"/>
                  <a:pt x="670" y="1786"/>
                </a:cubicBezTo>
                <a:cubicBezTo>
                  <a:pt x="675" y="1835"/>
                  <a:pt x="669" y="1931"/>
                  <a:pt x="720" y="1935"/>
                </a:cubicBezTo>
                <a:cubicBezTo>
                  <a:pt x="766" y="1938"/>
                  <a:pt x="778" y="1900"/>
                  <a:pt x="794" y="1885"/>
                </a:cubicBezTo>
                <a:cubicBezTo>
                  <a:pt x="819" y="1862"/>
                  <a:pt x="857" y="1819"/>
                  <a:pt x="869" y="1811"/>
                </a:cubicBezTo>
                <a:cubicBezTo>
                  <a:pt x="924" y="1774"/>
                  <a:pt x="897" y="1788"/>
                  <a:pt x="918" y="1736"/>
                </a:cubicBezTo>
                <a:cubicBezTo>
                  <a:pt x="938" y="1688"/>
                  <a:pt x="962" y="1667"/>
                  <a:pt x="968" y="1612"/>
                </a:cubicBezTo>
                <a:cubicBezTo>
                  <a:pt x="974" y="1562"/>
                  <a:pt x="974" y="1556"/>
                  <a:pt x="993" y="1513"/>
                </a:cubicBezTo>
                <a:cubicBezTo>
                  <a:pt x="1016" y="1462"/>
                  <a:pt x="1033" y="1479"/>
                  <a:pt x="1067" y="1439"/>
                </a:cubicBezTo>
                <a:cubicBezTo>
                  <a:pt x="1088" y="1414"/>
                  <a:pt x="1124" y="1356"/>
                  <a:pt x="1141" y="1339"/>
                </a:cubicBezTo>
                <a:cubicBezTo>
                  <a:pt x="1183" y="1297"/>
                  <a:pt x="1169" y="1281"/>
                  <a:pt x="1191" y="1240"/>
                </a:cubicBezTo>
                <a:cubicBezTo>
                  <a:pt x="1192" y="1237"/>
                  <a:pt x="1207" y="1180"/>
                  <a:pt x="1216" y="1166"/>
                </a:cubicBezTo>
                <a:cubicBezTo>
                  <a:pt x="1248" y="1117"/>
                  <a:pt x="1300" y="1097"/>
                  <a:pt x="1315" y="1042"/>
                </a:cubicBezTo>
                <a:cubicBezTo>
                  <a:pt x="1331" y="984"/>
                  <a:pt x="1345" y="1017"/>
                  <a:pt x="1365" y="967"/>
                </a:cubicBezTo>
                <a:cubicBezTo>
                  <a:pt x="1384" y="921"/>
                  <a:pt x="1374" y="912"/>
                  <a:pt x="1414" y="868"/>
                </a:cubicBezTo>
                <a:cubicBezTo>
                  <a:pt x="1452" y="825"/>
                  <a:pt x="1442" y="809"/>
                  <a:pt x="1464" y="769"/>
                </a:cubicBezTo>
                <a:cubicBezTo>
                  <a:pt x="1482" y="736"/>
                  <a:pt x="1474" y="738"/>
                  <a:pt x="1489" y="695"/>
                </a:cubicBezTo>
                <a:cubicBezTo>
                  <a:pt x="1496" y="674"/>
                  <a:pt x="1526" y="583"/>
                  <a:pt x="1538" y="571"/>
                </a:cubicBezTo>
                <a:cubicBezTo>
                  <a:pt x="1566" y="541"/>
                  <a:pt x="1569" y="515"/>
                  <a:pt x="1588" y="496"/>
                </a:cubicBezTo>
                <a:cubicBezTo>
                  <a:pt x="1623" y="461"/>
                  <a:pt x="1621" y="479"/>
                  <a:pt x="1637" y="422"/>
                </a:cubicBezTo>
              </a:path>
              <a:path w="2110" h="2754">
                <a:moveTo>
                  <a:pt x="720" y="298"/>
                </a:moveTo>
                <a:cubicBezTo>
                  <a:pt x="662" y="303"/>
                  <a:pt x="624" y="309"/>
                  <a:pt x="596" y="322"/>
                </a:cubicBezTo>
                <a:cubicBezTo>
                  <a:pt x="551" y="342"/>
                  <a:pt x="485" y="353"/>
                  <a:pt x="447" y="372"/>
                </a:cubicBezTo>
                <a:cubicBezTo>
                  <a:pt x="408" y="392"/>
                  <a:pt x="363" y="433"/>
                  <a:pt x="323" y="471"/>
                </a:cubicBezTo>
                <a:cubicBezTo>
                  <a:pt x="293" y="500"/>
                  <a:pt x="242" y="541"/>
                  <a:pt x="224" y="571"/>
                </a:cubicBezTo>
                <a:cubicBezTo>
                  <a:pt x="206" y="601"/>
                  <a:pt x="194" y="637"/>
                  <a:pt x="174" y="670"/>
                </a:cubicBezTo>
                <a:cubicBezTo>
                  <a:pt x="168" y="679"/>
                  <a:pt x="144" y="723"/>
                  <a:pt x="124" y="744"/>
                </a:cubicBezTo>
                <a:cubicBezTo>
                  <a:pt x="87" y="783"/>
                  <a:pt x="73" y="815"/>
                  <a:pt x="50" y="843"/>
                </a:cubicBezTo>
                <a:cubicBezTo>
                  <a:pt x="24" y="875"/>
                  <a:pt x="5" y="889"/>
                  <a:pt x="0" y="918"/>
                </a:cubicBezTo>
                <a:cubicBezTo>
                  <a:pt x="-13" y="996"/>
                  <a:pt x="2" y="1078"/>
                  <a:pt x="25" y="1141"/>
                </a:cubicBezTo>
                <a:cubicBezTo>
                  <a:pt x="38" y="1177"/>
                  <a:pt x="46" y="1188"/>
                  <a:pt x="50" y="1215"/>
                </a:cubicBezTo>
                <a:cubicBezTo>
                  <a:pt x="58" y="1260"/>
                  <a:pt x="61" y="1276"/>
                  <a:pt x="75" y="1315"/>
                </a:cubicBezTo>
                <a:cubicBezTo>
                  <a:pt x="87" y="1350"/>
                  <a:pt x="117" y="1403"/>
                  <a:pt x="124" y="1439"/>
                </a:cubicBezTo>
                <a:cubicBezTo>
                  <a:pt x="139" y="1517"/>
                  <a:pt x="129" y="1586"/>
                  <a:pt x="149" y="1662"/>
                </a:cubicBezTo>
                <a:cubicBezTo>
                  <a:pt x="158" y="1695"/>
                  <a:pt x="163" y="1728"/>
                  <a:pt x="174" y="1761"/>
                </a:cubicBezTo>
                <a:cubicBezTo>
                  <a:pt x="188" y="1802"/>
                  <a:pt x="197" y="1811"/>
                  <a:pt x="199" y="1860"/>
                </a:cubicBezTo>
                <a:cubicBezTo>
                  <a:pt x="201" y="1912"/>
                  <a:pt x="203" y="1917"/>
                  <a:pt x="224" y="1960"/>
                </a:cubicBezTo>
                <a:cubicBezTo>
                  <a:pt x="261" y="2037"/>
                  <a:pt x="327" y="2109"/>
                  <a:pt x="372" y="2183"/>
                </a:cubicBezTo>
                <a:cubicBezTo>
                  <a:pt x="386" y="2206"/>
                  <a:pt x="412" y="2233"/>
                  <a:pt x="422" y="2257"/>
                </a:cubicBezTo>
                <a:cubicBezTo>
                  <a:pt x="422" y="2274"/>
                  <a:pt x="422" y="2290"/>
                  <a:pt x="422" y="2307"/>
                </a:cubicBezTo>
                <a:cubicBezTo>
                  <a:pt x="461" y="2333"/>
                  <a:pt x="558" y="2437"/>
                  <a:pt x="596" y="2456"/>
                </a:cubicBezTo>
                <a:cubicBezTo>
                  <a:pt x="639" y="2478"/>
                  <a:pt x="675" y="2449"/>
                  <a:pt x="720" y="2480"/>
                </a:cubicBezTo>
                <a:cubicBezTo>
                  <a:pt x="733" y="2489"/>
                  <a:pt x="768" y="2514"/>
                  <a:pt x="794" y="2530"/>
                </a:cubicBezTo>
                <a:cubicBezTo>
                  <a:pt x="923" y="2608"/>
                  <a:pt x="1021" y="2655"/>
                  <a:pt x="1166" y="2704"/>
                </a:cubicBezTo>
                <a:cubicBezTo>
                  <a:pt x="1349" y="2766"/>
                  <a:pt x="1254" y="2752"/>
                  <a:pt x="1365" y="2729"/>
                </a:cubicBezTo>
                <a:cubicBezTo>
                  <a:pt x="1401" y="2722"/>
                  <a:pt x="1433" y="2724"/>
                  <a:pt x="1464" y="2704"/>
                </a:cubicBezTo>
                <a:cubicBezTo>
                  <a:pt x="1493" y="2685"/>
                  <a:pt x="1541" y="2646"/>
                  <a:pt x="1563" y="2629"/>
                </a:cubicBezTo>
                <a:cubicBezTo>
                  <a:pt x="1575" y="2620"/>
                  <a:pt x="1624" y="2595"/>
                  <a:pt x="1637" y="2580"/>
                </a:cubicBezTo>
                <a:cubicBezTo>
                  <a:pt x="1653" y="2562"/>
                  <a:pt x="1698" y="2520"/>
                  <a:pt x="1712" y="2505"/>
                </a:cubicBezTo>
                <a:cubicBezTo>
                  <a:pt x="1720" y="2496"/>
                  <a:pt x="1735" y="2438"/>
                  <a:pt x="1737" y="2431"/>
                </a:cubicBezTo>
                <a:cubicBezTo>
                  <a:pt x="1749" y="2377"/>
                  <a:pt x="1748" y="2329"/>
                  <a:pt x="1762" y="2282"/>
                </a:cubicBezTo>
                <a:cubicBezTo>
                  <a:pt x="1772" y="2249"/>
                  <a:pt x="1775" y="2217"/>
                  <a:pt x="1786" y="2183"/>
                </a:cubicBezTo>
                <a:cubicBezTo>
                  <a:pt x="1800" y="2142"/>
                  <a:pt x="1822" y="2101"/>
                  <a:pt x="1836" y="2059"/>
                </a:cubicBezTo>
                <a:cubicBezTo>
                  <a:pt x="1849" y="2021"/>
                  <a:pt x="1870" y="1996"/>
                  <a:pt x="1886" y="1960"/>
                </a:cubicBezTo>
                <a:cubicBezTo>
                  <a:pt x="1899" y="1931"/>
                  <a:pt x="1900" y="1890"/>
                  <a:pt x="1910" y="1860"/>
                </a:cubicBezTo>
                <a:cubicBezTo>
                  <a:pt x="1923" y="1820"/>
                  <a:pt x="1931" y="1810"/>
                  <a:pt x="1935" y="1761"/>
                </a:cubicBezTo>
                <a:cubicBezTo>
                  <a:pt x="1938" y="1724"/>
                  <a:pt x="1957" y="1687"/>
                  <a:pt x="1960" y="1662"/>
                </a:cubicBezTo>
                <a:cubicBezTo>
                  <a:pt x="1966" y="1605"/>
                  <a:pt x="1980" y="1533"/>
                  <a:pt x="1985" y="1488"/>
                </a:cubicBezTo>
                <a:cubicBezTo>
                  <a:pt x="1991" y="1439"/>
                  <a:pt x="2006" y="1377"/>
                  <a:pt x="2010" y="1339"/>
                </a:cubicBezTo>
                <a:cubicBezTo>
                  <a:pt x="2014" y="1303"/>
                  <a:pt x="2030" y="1267"/>
                  <a:pt x="2034" y="1240"/>
                </a:cubicBezTo>
                <a:cubicBezTo>
                  <a:pt x="2039" y="1207"/>
                  <a:pt x="2054" y="1199"/>
                  <a:pt x="2059" y="1166"/>
                </a:cubicBezTo>
                <a:cubicBezTo>
                  <a:pt x="2069" y="1105"/>
                  <a:pt x="2078" y="1017"/>
                  <a:pt x="2084" y="967"/>
                </a:cubicBezTo>
                <a:cubicBezTo>
                  <a:pt x="2089" y="923"/>
                  <a:pt x="2104" y="877"/>
                  <a:pt x="2109" y="843"/>
                </a:cubicBezTo>
                <a:cubicBezTo>
                  <a:pt x="2133" y="679"/>
                  <a:pt x="2163" y="258"/>
                  <a:pt x="2084" y="124"/>
                </a:cubicBezTo>
                <a:cubicBezTo>
                  <a:pt x="2064" y="90"/>
                  <a:pt x="2046" y="67"/>
                  <a:pt x="2010" y="50"/>
                </a:cubicBezTo>
                <a:cubicBezTo>
                  <a:pt x="1989" y="40"/>
                  <a:pt x="1912" y="26"/>
                  <a:pt x="1910" y="25"/>
                </a:cubicBezTo>
                <a:cubicBezTo>
                  <a:pt x="1869" y="9"/>
                  <a:pt x="1861" y="4"/>
                  <a:pt x="1811" y="0"/>
                </a:cubicBezTo>
                <a:cubicBezTo>
                  <a:pt x="1735" y="-6"/>
                  <a:pt x="1656" y="-7"/>
                  <a:pt x="1588" y="25"/>
                </a:cubicBezTo>
                <a:cubicBezTo>
                  <a:pt x="1547" y="45"/>
                  <a:pt x="1504" y="58"/>
                  <a:pt x="1464" y="74"/>
                </a:cubicBezTo>
                <a:cubicBezTo>
                  <a:pt x="1432" y="87"/>
                  <a:pt x="1413" y="96"/>
                  <a:pt x="1389" y="99"/>
                </a:cubicBezTo>
                <a:cubicBezTo>
                  <a:pt x="1323" y="107"/>
                  <a:pt x="1273" y="107"/>
                  <a:pt x="1216" y="124"/>
                </a:cubicBezTo>
                <a:cubicBezTo>
                  <a:pt x="1165" y="139"/>
                  <a:pt x="1164" y="145"/>
                  <a:pt x="1117" y="174"/>
                </a:cubicBezTo>
                <a:cubicBezTo>
                  <a:pt x="1102" y="183"/>
                  <a:pt x="1004" y="214"/>
                  <a:pt x="993" y="223"/>
                </a:cubicBezTo>
                <a:cubicBezTo>
                  <a:pt x="973" y="240"/>
                  <a:pt x="955" y="301"/>
                  <a:pt x="918" y="322"/>
                </a:cubicBezTo>
                <a:cubicBezTo>
                  <a:pt x="902" y="331"/>
                  <a:pt x="863" y="337"/>
                  <a:pt x="844" y="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Ink 4"/>
          <p:cNvSpPr/>
          <p:nvPr/>
        </p:nvSpPr>
        <p:spPr>
          <a:xfrm>
            <a:off x="7180200" y="2347920"/>
            <a:ext cx="1123920" cy="8319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126" h="2307">
                <a:moveTo>
                  <a:pt x="2356" y="521"/>
                </a:moveTo>
                <a:cubicBezTo>
                  <a:pt x="2345" y="572"/>
                  <a:pt x="2344" y="598"/>
                  <a:pt x="2307" y="645"/>
                </a:cubicBezTo>
                <a:cubicBezTo>
                  <a:pt x="2269" y="694"/>
                  <a:pt x="2165" y="764"/>
                  <a:pt x="2108" y="818"/>
                </a:cubicBezTo>
                <a:cubicBezTo>
                  <a:pt x="2046" y="878"/>
                  <a:pt x="2027" y="959"/>
                  <a:pt x="1984" y="1017"/>
                </a:cubicBezTo>
                <a:cubicBezTo>
                  <a:pt x="1927" y="1094"/>
                  <a:pt x="1861" y="1155"/>
                  <a:pt x="1811" y="1240"/>
                </a:cubicBezTo>
                <a:cubicBezTo>
                  <a:pt x="1733" y="1371"/>
                  <a:pt x="1653" y="1487"/>
                  <a:pt x="1563" y="1612"/>
                </a:cubicBezTo>
                <a:cubicBezTo>
                  <a:pt x="1522" y="1668"/>
                  <a:pt x="1438" y="1751"/>
                  <a:pt x="1414" y="1786"/>
                </a:cubicBezTo>
                <a:cubicBezTo>
                  <a:pt x="1396" y="1812"/>
                  <a:pt x="1380" y="1843"/>
                  <a:pt x="1364" y="1860"/>
                </a:cubicBezTo>
                <a:cubicBezTo>
                  <a:pt x="1330" y="1897"/>
                  <a:pt x="1308" y="1908"/>
                  <a:pt x="1265" y="1934"/>
                </a:cubicBezTo>
              </a:path>
              <a:path w="3126" h="2307">
                <a:moveTo>
                  <a:pt x="1339" y="645"/>
                </a:moveTo>
                <a:cubicBezTo>
                  <a:pt x="1375" y="670"/>
                  <a:pt x="1379" y="689"/>
                  <a:pt x="1414" y="719"/>
                </a:cubicBezTo>
                <a:cubicBezTo>
                  <a:pt x="1502" y="795"/>
                  <a:pt x="1598" y="833"/>
                  <a:pt x="1687" y="917"/>
                </a:cubicBezTo>
                <a:cubicBezTo>
                  <a:pt x="1783" y="1007"/>
                  <a:pt x="1892" y="1074"/>
                  <a:pt x="1960" y="1190"/>
                </a:cubicBezTo>
                <a:cubicBezTo>
                  <a:pt x="2049" y="1340"/>
                  <a:pt x="2129" y="1419"/>
                  <a:pt x="2257" y="1538"/>
                </a:cubicBezTo>
                <a:cubicBezTo>
                  <a:pt x="2399" y="1670"/>
                  <a:pt x="2576" y="1768"/>
                  <a:pt x="2704" y="1910"/>
                </a:cubicBezTo>
                <a:cubicBezTo>
                  <a:pt x="2774" y="1988"/>
                  <a:pt x="2794" y="2078"/>
                  <a:pt x="2853" y="2158"/>
                </a:cubicBezTo>
                <a:cubicBezTo>
                  <a:pt x="2897" y="2218"/>
                  <a:pt x="2953" y="2246"/>
                  <a:pt x="3001" y="2306"/>
                </a:cubicBezTo>
              </a:path>
              <a:path w="3126" h="2307">
                <a:moveTo>
                  <a:pt x="2158" y="74"/>
                </a:moveTo>
                <a:cubicBezTo>
                  <a:pt x="2057" y="64"/>
                  <a:pt x="1985" y="50"/>
                  <a:pt x="1885" y="24"/>
                </a:cubicBezTo>
                <a:cubicBezTo>
                  <a:pt x="1761" y="-8"/>
                  <a:pt x="1641" y="0"/>
                  <a:pt x="1513" y="0"/>
                </a:cubicBezTo>
                <a:cubicBezTo>
                  <a:pt x="1337" y="0"/>
                  <a:pt x="1127" y="-23"/>
                  <a:pt x="967" y="24"/>
                </a:cubicBezTo>
                <a:cubicBezTo>
                  <a:pt x="902" y="43"/>
                  <a:pt x="811" y="93"/>
                  <a:pt x="744" y="124"/>
                </a:cubicBezTo>
                <a:cubicBezTo>
                  <a:pt x="648" y="169"/>
                  <a:pt x="528" y="202"/>
                  <a:pt x="446" y="272"/>
                </a:cubicBezTo>
                <a:cubicBezTo>
                  <a:pt x="356" y="348"/>
                  <a:pt x="258" y="426"/>
                  <a:pt x="174" y="496"/>
                </a:cubicBezTo>
                <a:cubicBezTo>
                  <a:pt x="134" y="529"/>
                  <a:pt x="48" y="609"/>
                  <a:pt x="25" y="645"/>
                </a:cubicBezTo>
                <a:cubicBezTo>
                  <a:pt x="-1" y="686"/>
                  <a:pt x="1" y="693"/>
                  <a:pt x="0" y="744"/>
                </a:cubicBezTo>
                <a:cubicBezTo>
                  <a:pt x="-1" y="804"/>
                  <a:pt x="10" y="861"/>
                  <a:pt x="25" y="917"/>
                </a:cubicBezTo>
                <a:cubicBezTo>
                  <a:pt x="34" y="950"/>
                  <a:pt x="37" y="949"/>
                  <a:pt x="50" y="992"/>
                </a:cubicBezTo>
                <a:cubicBezTo>
                  <a:pt x="62" y="1031"/>
                  <a:pt x="53" y="1056"/>
                  <a:pt x="74" y="1091"/>
                </a:cubicBezTo>
                <a:cubicBezTo>
                  <a:pt x="104" y="1142"/>
                  <a:pt x="142" y="1196"/>
                  <a:pt x="174" y="1240"/>
                </a:cubicBezTo>
                <a:cubicBezTo>
                  <a:pt x="198" y="1273"/>
                  <a:pt x="221" y="1280"/>
                  <a:pt x="248" y="1314"/>
                </a:cubicBezTo>
                <a:cubicBezTo>
                  <a:pt x="264" y="1334"/>
                  <a:pt x="317" y="1380"/>
                  <a:pt x="322" y="1389"/>
                </a:cubicBezTo>
                <a:cubicBezTo>
                  <a:pt x="334" y="1409"/>
                  <a:pt x="339" y="1465"/>
                  <a:pt x="347" y="1488"/>
                </a:cubicBezTo>
                <a:cubicBezTo>
                  <a:pt x="358" y="1521"/>
                  <a:pt x="362" y="1557"/>
                  <a:pt x="372" y="1587"/>
                </a:cubicBezTo>
                <a:cubicBezTo>
                  <a:pt x="384" y="1623"/>
                  <a:pt x="412" y="1654"/>
                  <a:pt x="422" y="1686"/>
                </a:cubicBezTo>
                <a:cubicBezTo>
                  <a:pt x="422" y="1711"/>
                  <a:pt x="422" y="1719"/>
                  <a:pt x="422" y="1736"/>
                </a:cubicBezTo>
                <a:cubicBezTo>
                  <a:pt x="450" y="1745"/>
                  <a:pt x="499" y="1782"/>
                  <a:pt x="521" y="1786"/>
                </a:cubicBezTo>
                <a:cubicBezTo>
                  <a:pt x="584" y="1799"/>
                  <a:pt x="616" y="1781"/>
                  <a:pt x="670" y="1810"/>
                </a:cubicBezTo>
                <a:cubicBezTo>
                  <a:pt x="705" y="1829"/>
                  <a:pt x="742" y="1889"/>
                  <a:pt x="769" y="1910"/>
                </a:cubicBezTo>
                <a:cubicBezTo>
                  <a:pt x="828" y="1956"/>
                  <a:pt x="815" y="1935"/>
                  <a:pt x="868" y="1959"/>
                </a:cubicBezTo>
                <a:cubicBezTo>
                  <a:pt x="901" y="1974"/>
                  <a:pt x="934" y="1970"/>
                  <a:pt x="967" y="1984"/>
                </a:cubicBezTo>
                <a:cubicBezTo>
                  <a:pt x="1025" y="2008"/>
                  <a:pt x="1056" y="2051"/>
                  <a:pt x="1116" y="2083"/>
                </a:cubicBezTo>
                <a:cubicBezTo>
                  <a:pt x="1175" y="2115"/>
                  <a:pt x="1227" y="2124"/>
                  <a:pt x="1290" y="2133"/>
                </a:cubicBezTo>
                <a:cubicBezTo>
                  <a:pt x="1411" y="2150"/>
                  <a:pt x="1542" y="2149"/>
                  <a:pt x="1662" y="2158"/>
                </a:cubicBezTo>
                <a:cubicBezTo>
                  <a:pt x="1737" y="2164"/>
                  <a:pt x="1818" y="2168"/>
                  <a:pt x="1860" y="2182"/>
                </a:cubicBezTo>
                <a:cubicBezTo>
                  <a:pt x="1927" y="2204"/>
                  <a:pt x="1990" y="2247"/>
                  <a:pt x="2059" y="2257"/>
                </a:cubicBezTo>
                <a:cubicBezTo>
                  <a:pt x="2254" y="2286"/>
                  <a:pt x="2682" y="2300"/>
                  <a:pt x="2828" y="2232"/>
                </a:cubicBezTo>
                <a:cubicBezTo>
                  <a:pt x="2867" y="2214"/>
                  <a:pt x="2890" y="2184"/>
                  <a:pt x="2927" y="2158"/>
                </a:cubicBezTo>
                <a:cubicBezTo>
                  <a:pt x="2958" y="2136"/>
                  <a:pt x="2992" y="2115"/>
                  <a:pt x="3026" y="2083"/>
                </a:cubicBezTo>
                <a:cubicBezTo>
                  <a:pt x="3062" y="2049"/>
                  <a:pt x="3081" y="2022"/>
                  <a:pt x="3101" y="1984"/>
                </a:cubicBezTo>
                <a:cubicBezTo>
                  <a:pt x="3123" y="1941"/>
                  <a:pt x="3118" y="1934"/>
                  <a:pt x="3125" y="1885"/>
                </a:cubicBezTo>
                <a:cubicBezTo>
                  <a:pt x="3149" y="1716"/>
                  <a:pt x="3144" y="1467"/>
                  <a:pt x="3101" y="1314"/>
                </a:cubicBezTo>
                <a:cubicBezTo>
                  <a:pt x="3089" y="1271"/>
                  <a:pt x="3061" y="1261"/>
                  <a:pt x="3051" y="1240"/>
                </a:cubicBezTo>
                <a:cubicBezTo>
                  <a:pt x="3033" y="1205"/>
                  <a:pt x="3040" y="1194"/>
                  <a:pt x="3026" y="1165"/>
                </a:cubicBezTo>
                <a:cubicBezTo>
                  <a:pt x="3004" y="1120"/>
                  <a:pt x="3002" y="1122"/>
                  <a:pt x="2977" y="1066"/>
                </a:cubicBezTo>
                <a:cubicBezTo>
                  <a:pt x="2967" y="1043"/>
                  <a:pt x="2965" y="986"/>
                  <a:pt x="2952" y="967"/>
                </a:cubicBezTo>
                <a:cubicBezTo>
                  <a:pt x="2934" y="940"/>
                  <a:pt x="2918" y="911"/>
                  <a:pt x="2902" y="893"/>
                </a:cubicBezTo>
                <a:cubicBezTo>
                  <a:pt x="2885" y="873"/>
                  <a:pt x="2861" y="847"/>
                  <a:pt x="2828" y="818"/>
                </a:cubicBezTo>
                <a:cubicBezTo>
                  <a:pt x="2815" y="806"/>
                  <a:pt x="2794" y="761"/>
                  <a:pt x="2778" y="744"/>
                </a:cubicBezTo>
                <a:cubicBezTo>
                  <a:pt x="2751" y="716"/>
                  <a:pt x="2749" y="679"/>
                  <a:pt x="2728" y="645"/>
                </a:cubicBezTo>
                <a:cubicBezTo>
                  <a:pt x="2699" y="598"/>
                  <a:pt x="2684" y="612"/>
                  <a:pt x="2654" y="570"/>
                </a:cubicBezTo>
                <a:cubicBezTo>
                  <a:pt x="2636" y="545"/>
                  <a:pt x="2620" y="487"/>
                  <a:pt x="2604" y="471"/>
                </a:cubicBezTo>
                <a:cubicBezTo>
                  <a:pt x="2561" y="428"/>
                  <a:pt x="2556" y="402"/>
                  <a:pt x="2530" y="372"/>
                </a:cubicBezTo>
                <a:cubicBezTo>
                  <a:pt x="2480" y="313"/>
                  <a:pt x="2427" y="279"/>
                  <a:pt x="2381" y="223"/>
                </a:cubicBezTo>
                <a:cubicBezTo>
                  <a:pt x="2353" y="189"/>
                  <a:pt x="2327" y="164"/>
                  <a:pt x="2307" y="148"/>
                </a:cubicBezTo>
                <a:cubicBezTo>
                  <a:pt x="2287" y="132"/>
                  <a:pt x="2230" y="114"/>
                  <a:pt x="2208" y="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Ink 5"/>
          <p:cNvSpPr/>
          <p:nvPr/>
        </p:nvSpPr>
        <p:spPr>
          <a:xfrm>
            <a:off x="2847960" y="5384880"/>
            <a:ext cx="1108080" cy="7318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3076" h="2035">
                <a:moveTo>
                  <a:pt x="2480" y="819"/>
                </a:moveTo>
                <a:cubicBezTo>
                  <a:pt x="2505" y="819"/>
                  <a:pt x="2513" y="819"/>
                  <a:pt x="2530" y="819"/>
                </a:cubicBezTo>
                <a:cubicBezTo>
                  <a:pt x="2499" y="909"/>
                  <a:pt x="2468" y="927"/>
                  <a:pt x="2381" y="992"/>
                </a:cubicBezTo>
                <a:cubicBezTo>
                  <a:pt x="2242" y="1096"/>
                  <a:pt x="2082" y="1238"/>
                  <a:pt x="1934" y="1315"/>
                </a:cubicBezTo>
                <a:cubicBezTo>
                  <a:pt x="1792" y="1389"/>
                  <a:pt x="1593" y="1452"/>
                  <a:pt x="1438" y="1489"/>
                </a:cubicBezTo>
                <a:cubicBezTo>
                  <a:pt x="1380" y="1489"/>
                  <a:pt x="1355" y="1489"/>
                  <a:pt x="1314" y="1489"/>
                </a:cubicBezTo>
                <a:cubicBezTo>
                  <a:pt x="1280" y="1567"/>
                  <a:pt x="1276" y="1561"/>
                  <a:pt x="1190" y="1613"/>
                </a:cubicBezTo>
                <a:cubicBezTo>
                  <a:pt x="1136" y="1646"/>
                  <a:pt x="1134" y="1661"/>
                  <a:pt x="1091" y="1712"/>
                </a:cubicBezTo>
                <a:cubicBezTo>
                  <a:pt x="1079" y="1727"/>
                  <a:pt x="1037" y="1752"/>
                  <a:pt x="1017" y="1786"/>
                </a:cubicBezTo>
                <a:cubicBezTo>
                  <a:pt x="1017" y="1794"/>
                  <a:pt x="1017" y="1803"/>
                  <a:pt x="1017" y="1811"/>
                </a:cubicBezTo>
              </a:path>
              <a:path w="3076" h="2035">
                <a:moveTo>
                  <a:pt x="1538" y="720"/>
                </a:moveTo>
                <a:cubicBezTo>
                  <a:pt x="1538" y="806"/>
                  <a:pt x="1536" y="841"/>
                  <a:pt x="1587" y="918"/>
                </a:cubicBezTo>
                <a:cubicBezTo>
                  <a:pt x="1649" y="1013"/>
                  <a:pt x="1725" y="1113"/>
                  <a:pt x="1786" y="1191"/>
                </a:cubicBezTo>
                <a:cubicBezTo>
                  <a:pt x="1815" y="1228"/>
                  <a:pt x="1812" y="1213"/>
                  <a:pt x="1835" y="1265"/>
                </a:cubicBezTo>
                <a:cubicBezTo>
                  <a:pt x="1852" y="1304"/>
                  <a:pt x="1904" y="1411"/>
                  <a:pt x="1934" y="1439"/>
                </a:cubicBezTo>
                <a:cubicBezTo>
                  <a:pt x="1975" y="1478"/>
                  <a:pt x="1983" y="1510"/>
                  <a:pt x="2009" y="1538"/>
                </a:cubicBezTo>
                <a:cubicBezTo>
                  <a:pt x="2027" y="1558"/>
                  <a:pt x="2058" y="1586"/>
                  <a:pt x="2083" y="1613"/>
                </a:cubicBezTo>
                <a:cubicBezTo>
                  <a:pt x="2097" y="1628"/>
                  <a:pt x="2135" y="1645"/>
                  <a:pt x="2158" y="1662"/>
                </a:cubicBezTo>
                <a:cubicBezTo>
                  <a:pt x="2187" y="1684"/>
                  <a:pt x="2204" y="1683"/>
                  <a:pt x="2257" y="1687"/>
                </a:cubicBezTo>
                <a:cubicBezTo>
                  <a:pt x="2265" y="1687"/>
                  <a:pt x="2274" y="1687"/>
                  <a:pt x="2282" y="1687"/>
                </a:cubicBezTo>
                <a:cubicBezTo>
                  <a:pt x="2301" y="1763"/>
                  <a:pt x="2339" y="1806"/>
                  <a:pt x="2381" y="1885"/>
                </a:cubicBezTo>
                <a:cubicBezTo>
                  <a:pt x="2410" y="1940"/>
                  <a:pt x="2408" y="1952"/>
                  <a:pt x="2431" y="2009"/>
                </a:cubicBezTo>
              </a:path>
              <a:path w="3076" h="2035">
                <a:moveTo>
                  <a:pt x="2083" y="0"/>
                </a:moveTo>
                <a:cubicBezTo>
                  <a:pt x="2017" y="11"/>
                  <a:pt x="1968" y="-1"/>
                  <a:pt x="1910" y="25"/>
                </a:cubicBezTo>
                <a:cubicBezTo>
                  <a:pt x="1808" y="71"/>
                  <a:pt x="1684" y="158"/>
                  <a:pt x="1587" y="223"/>
                </a:cubicBezTo>
                <a:cubicBezTo>
                  <a:pt x="1399" y="349"/>
                  <a:pt x="1226" y="490"/>
                  <a:pt x="1041" y="620"/>
                </a:cubicBezTo>
                <a:cubicBezTo>
                  <a:pt x="855" y="751"/>
                  <a:pt x="725" y="882"/>
                  <a:pt x="570" y="1042"/>
                </a:cubicBezTo>
                <a:cubicBezTo>
                  <a:pt x="510" y="1104"/>
                  <a:pt x="448" y="1183"/>
                  <a:pt x="397" y="1240"/>
                </a:cubicBezTo>
                <a:cubicBezTo>
                  <a:pt x="369" y="1271"/>
                  <a:pt x="290" y="1320"/>
                  <a:pt x="248" y="1364"/>
                </a:cubicBezTo>
                <a:cubicBezTo>
                  <a:pt x="173" y="1442"/>
                  <a:pt x="109" y="1546"/>
                  <a:pt x="49" y="1637"/>
                </a:cubicBezTo>
                <a:cubicBezTo>
                  <a:pt x="4" y="1705"/>
                  <a:pt x="-4" y="1715"/>
                  <a:pt x="0" y="1786"/>
                </a:cubicBezTo>
                <a:cubicBezTo>
                  <a:pt x="1" y="1798"/>
                  <a:pt x="89" y="1856"/>
                  <a:pt x="99" y="1861"/>
                </a:cubicBezTo>
                <a:cubicBezTo>
                  <a:pt x="156" y="1893"/>
                  <a:pt x="282" y="1947"/>
                  <a:pt x="347" y="1960"/>
                </a:cubicBezTo>
                <a:cubicBezTo>
                  <a:pt x="422" y="1975"/>
                  <a:pt x="520" y="2000"/>
                  <a:pt x="595" y="2009"/>
                </a:cubicBezTo>
                <a:cubicBezTo>
                  <a:pt x="1246" y="2089"/>
                  <a:pt x="2109" y="2079"/>
                  <a:pt x="2753" y="2034"/>
                </a:cubicBezTo>
                <a:cubicBezTo>
                  <a:pt x="2794" y="2031"/>
                  <a:pt x="2817" y="2004"/>
                  <a:pt x="2852" y="1985"/>
                </a:cubicBezTo>
                <a:cubicBezTo>
                  <a:pt x="2865" y="1978"/>
                  <a:pt x="2918" y="1962"/>
                  <a:pt x="2927" y="1935"/>
                </a:cubicBezTo>
                <a:cubicBezTo>
                  <a:pt x="2937" y="1907"/>
                  <a:pt x="2949" y="1841"/>
                  <a:pt x="2951" y="1836"/>
                </a:cubicBezTo>
                <a:cubicBezTo>
                  <a:pt x="2962" y="1803"/>
                  <a:pt x="2966" y="1767"/>
                  <a:pt x="2976" y="1737"/>
                </a:cubicBezTo>
                <a:cubicBezTo>
                  <a:pt x="2997" y="1674"/>
                  <a:pt x="3005" y="1596"/>
                  <a:pt x="3026" y="1538"/>
                </a:cubicBezTo>
                <a:cubicBezTo>
                  <a:pt x="3049" y="1475"/>
                  <a:pt x="3068" y="1440"/>
                  <a:pt x="3075" y="1364"/>
                </a:cubicBezTo>
                <a:cubicBezTo>
                  <a:pt x="3091" y="1201"/>
                  <a:pt x="3132" y="723"/>
                  <a:pt x="3051" y="620"/>
                </a:cubicBezTo>
                <a:cubicBezTo>
                  <a:pt x="3021" y="582"/>
                  <a:pt x="2987" y="571"/>
                  <a:pt x="2951" y="546"/>
                </a:cubicBezTo>
                <a:cubicBezTo>
                  <a:pt x="2916" y="522"/>
                  <a:pt x="2890" y="497"/>
                  <a:pt x="2852" y="472"/>
                </a:cubicBezTo>
                <a:cubicBezTo>
                  <a:pt x="2835" y="461"/>
                  <a:pt x="2791" y="405"/>
                  <a:pt x="2778" y="397"/>
                </a:cubicBezTo>
                <a:cubicBezTo>
                  <a:pt x="2746" y="379"/>
                  <a:pt x="2726" y="364"/>
                  <a:pt x="2703" y="347"/>
                </a:cubicBezTo>
                <a:cubicBezTo>
                  <a:pt x="2667" y="320"/>
                  <a:pt x="2641" y="306"/>
                  <a:pt x="2604" y="273"/>
                </a:cubicBezTo>
                <a:cubicBezTo>
                  <a:pt x="2566" y="239"/>
                  <a:pt x="2560" y="247"/>
                  <a:pt x="2530" y="223"/>
                </a:cubicBezTo>
                <a:cubicBezTo>
                  <a:pt x="2481" y="183"/>
                  <a:pt x="2508" y="199"/>
                  <a:pt x="2455" y="174"/>
                </a:cubicBezTo>
                <a:cubicBezTo>
                  <a:pt x="2425" y="160"/>
                  <a:pt x="2408" y="168"/>
                  <a:pt x="2381" y="149"/>
                </a:cubicBezTo>
                <a:cubicBezTo>
                  <a:pt x="2357" y="133"/>
                  <a:pt x="2328" y="103"/>
                  <a:pt x="2307" y="99"/>
                </a:cubicBezTo>
                <a:cubicBezTo>
                  <a:pt x="2255" y="89"/>
                  <a:pt x="2229" y="94"/>
                  <a:pt x="2183" y="75"/>
                </a:cubicBezTo>
                <a:cubicBezTo>
                  <a:pt x="2160" y="52"/>
                  <a:pt x="2156" y="44"/>
                  <a:pt x="2133" y="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Ink 6"/>
          <p:cNvSpPr/>
          <p:nvPr/>
        </p:nvSpPr>
        <p:spPr>
          <a:xfrm>
            <a:off x="7750080" y="6010200"/>
            <a:ext cx="314280" cy="285840"/>
          </a:xfrm>
          <a:custGeom>
            <a:avLst/>
            <a:gdLst>
              <a:gd name="textAreaLeft" fmla="*/ 0 w 314280"/>
              <a:gd name="textAreaRight" fmla="*/ 314640 w 314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870" h="794">
                <a:moveTo>
                  <a:pt x="422" y="99"/>
                </a:moveTo>
                <a:cubicBezTo>
                  <a:pt x="414" y="99"/>
                  <a:pt x="405" y="99"/>
                  <a:pt x="397" y="99"/>
                </a:cubicBezTo>
                <a:cubicBezTo>
                  <a:pt x="385" y="147"/>
                  <a:pt x="342" y="155"/>
                  <a:pt x="323" y="198"/>
                </a:cubicBezTo>
                <a:cubicBezTo>
                  <a:pt x="307" y="234"/>
                  <a:pt x="301" y="264"/>
                  <a:pt x="273" y="297"/>
                </a:cubicBezTo>
                <a:cubicBezTo>
                  <a:pt x="251" y="320"/>
                  <a:pt x="246" y="328"/>
                  <a:pt x="224" y="322"/>
                </a:cubicBezTo>
                <a:cubicBezTo>
                  <a:pt x="217" y="351"/>
                  <a:pt x="207" y="367"/>
                  <a:pt x="199" y="396"/>
                </a:cubicBezTo>
                <a:cubicBezTo>
                  <a:pt x="158" y="406"/>
                  <a:pt x="129" y="425"/>
                  <a:pt x="124" y="471"/>
                </a:cubicBezTo>
                <a:cubicBezTo>
                  <a:pt x="119" y="515"/>
                  <a:pt x="82" y="538"/>
                  <a:pt x="50" y="570"/>
                </a:cubicBezTo>
                <a:cubicBezTo>
                  <a:pt x="22" y="598"/>
                  <a:pt x="24" y="613"/>
                  <a:pt x="0" y="644"/>
                </a:cubicBezTo>
              </a:path>
              <a:path w="870" h="794">
                <a:moveTo>
                  <a:pt x="75" y="0"/>
                </a:moveTo>
                <a:cubicBezTo>
                  <a:pt x="83" y="0"/>
                  <a:pt x="92" y="0"/>
                  <a:pt x="100" y="0"/>
                </a:cubicBezTo>
                <a:cubicBezTo>
                  <a:pt x="100" y="41"/>
                  <a:pt x="90" y="37"/>
                  <a:pt x="124" y="49"/>
                </a:cubicBezTo>
                <a:cubicBezTo>
                  <a:pt x="124" y="122"/>
                  <a:pt x="146" y="69"/>
                  <a:pt x="174" y="124"/>
                </a:cubicBezTo>
                <a:cubicBezTo>
                  <a:pt x="198" y="170"/>
                  <a:pt x="210" y="162"/>
                  <a:pt x="249" y="198"/>
                </a:cubicBezTo>
                <a:cubicBezTo>
                  <a:pt x="271" y="221"/>
                  <a:pt x="276" y="229"/>
                  <a:pt x="298" y="223"/>
                </a:cubicBezTo>
                <a:cubicBezTo>
                  <a:pt x="308" y="263"/>
                  <a:pt x="307" y="262"/>
                  <a:pt x="348" y="272"/>
                </a:cubicBezTo>
                <a:cubicBezTo>
                  <a:pt x="355" y="299"/>
                  <a:pt x="395" y="383"/>
                  <a:pt x="422" y="396"/>
                </a:cubicBezTo>
                <a:cubicBezTo>
                  <a:pt x="430" y="396"/>
                  <a:pt x="439" y="396"/>
                  <a:pt x="447" y="396"/>
                </a:cubicBezTo>
                <a:cubicBezTo>
                  <a:pt x="458" y="439"/>
                  <a:pt x="487" y="463"/>
                  <a:pt x="521" y="496"/>
                </a:cubicBezTo>
                <a:cubicBezTo>
                  <a:pt x="544" y="518"/>
                  <a:pt x="552" y="523"/>
                  <a:pt x="546" y="545"/>
                </a:cubicBezTo>
                <a:cubicBezTo>
                  <a:pt x="619" y="545"/>
                  <a:pt x="566" y="567"/>
                  <a:pt x="621" y="595"/>
                </a:cubicBezTo>
                <a:cubicBezTo>
                  <a:pt x="629" y="595"/>
                  <a:pt x="637" y="595"/>
                  <a:pt x="645" y="595"/>
                </a:cubicBezTo>
                <a:cubicBezTo>
                  <a:pt x="645" y="647"/>
                  <a:pt x="643" y="644"/>
                  <a:pt x="695" y="644"/>
                </a:cubicBezTo>
                <a:cubicBezTo>
                  <a:pt x="705" y="685"/>
                  <a:pt x="704" y="684"/>
                  <a:pt x="745" y="694"/>
                </a:cubicBezTo>
                <a:cubicBezTo>
                  <a:pt x="745" y="746"/>
                  <a:pt x="742" y="744"/>
                  <a:pt x="794" y="744"/>
                </a:cubicBezTo>
                <a:cubicBezTo>
                  <a:pt x="806" y="778"/>
                  <a:pt x="802" y="768"/>
                  <a:pt x="844" y="768"/>
                </a:cubicBezTo>
                <a:cubicBezTo>
                  <a:pt x="844" y="793"/>
                  <a:pt x="844" y="801"/>
                  <a:pt x="869" y="793"/>
                </a:cubicBezTo>
              </a:path>
              <a:path w="870" h="794">
                <a:moveTo>
                  <a:pt x="348" y="198"/>
                </a:moveTo>
                <a:cubicBezTo>
                  <a:pt x="319" y="236"/>
                  <a:pt x="327" y="298"/>
                  <a:pt x="273" y="322"/>
                </a:cubicBezTo>
                <a:cubicBezTo>
                  <a:pt x="242" y="336"/>
                  <a:pt x="252" y="335"/>
                  <a:pt x="224" y="372"/>
                </a:cubicBezTo>
              </a:path>
              <a:path w="870" h="794">
                <a:moveTo>
                  <a:pt x="273" y="223"/>
                </a:moveTo>
                <a:cubicBezTo>
                  <a:pt x="273" y="248"/>
                  <a:pt x="273" y="256"/>
                  <a:pt x="273" y="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校园安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876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校园安全涉及到学生生活和学习方面的安全隐患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种之多，其中包括溺水、交通事故、食物中毒、火灾火险、体育运动损伤等等。这些都时刻在威胁着学生的健康成长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安全标示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5785920"/>
            <a:ext cx="64292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禁止游泳安全标示的坚决不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4"/>
          <p:cNvSpPr/>
          <p:nvPr/>
        </p:nvSpPr>
        <p:spPr>
          <a:xfrm>
            <a:off x="395280" y="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6" descr="游泳池.jpg"/>
          <p:cNvPicPr/>
          <p:nvPr/>
        </p:nvPicPr>
        <p:blipFill>
          <a:blip r:embed="rId2"/>
          <a:stretch/>
        </p:blipFill>
        <p:spPr>
          <a:xfrm>
            <a:off x="214200" y="928800"/>
            <a:ext cx="4667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发生溺水事件的客观原因是什么？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50920" y="177156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小心落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水中滑倒无法站立或水中嬉戏难以自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准备不充分，急于下水；或水中逞强，过度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突然呛水，不会调整；浮具受损沉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游泳技术没掌握，碰到意外，惊慌失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数学生没能力进行救助前去施救，本以为能够将同伴救上来，没想到的是，自己也被水淹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除了施救导致溺水身亡之外，还有是因物品掉在水里前去打捞也是导致溺水身亡的原因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f2f"/>
                </a:solidFill>
                <a:latin typeface="Franklin Gothic Medium"/>
              </a:rPr>
              <a:t>思        考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914400" y="16426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c47546"/>
                </a:solidFill>
                <a:latin typeface="Franklin Gothic Book"/>
              </a:rPr>
              <a:t>、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当自己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当发现有人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将溺水者救上岸后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你知道游泳小常识吗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3A96-5088-41EA-B617-4BB7F2E7CBB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</a:rPr>
              <a:t>当自己溺水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66560" y="1484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zh-CN" sz="3200" spc="-1" strike="noStrike">
                <a:solidFill>
                  <a:srgbClr val="7030a0"/>
                </a:solidFill>
                <a:latin typeface="Franklin Gothic Book"/>
              </a:rPr>
              <a:t>大声呼救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和采取仰面位，头顶向后，口向上方，努力使口鼻露出水面，进行呼吸。呼气浅而吸气深，因为深吸气时，人体比重比水略轻，可浮出水面等待救援。也可憋住气尽量不吸气，以免呛水。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</a:rPr>
              <a:t>不可将手上举或挣扎，因举手反使人下沉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若因腓肠肌痉挛而致淹溺，立即呼救，自己将脚趾屈伸，并采用仰面位，浮出水面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682-40EA-489C-8535-24533699AEC5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85600" y="1642680"/>
            <a:ext cx="53578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一：可将救生圈、竹竿、木板等物抛给溺水者，再将其拖至岸边。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08" name="Picture 4" descr="W020060720804732198074"/>
          <p:cNvPicPr/>
          <p:nvPr/>
        </p:nvPicPr>
        <p:blipFill>
          <a:blip r:embed="rId1"/>
          <a:stretch/>
        </p:blipFill>
        <p:spPr>
          <a:xfrm>
            <a:off x="214200" y="2714760"/>
            <a:ext cx="4095720" cy="3500280"/>
          </a:xfrm>
          <a:prstGeom prst="rect">
            <a:avLst/>
          </a:prstGeom>
          <a:ln w="0">
            <a:noFill/>
          </a:ln>
        </p:spPr>
      </p:pic>
      <p:sp>
        <p:nvSpPr>
          <p:cNvPr id="70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1EED-C008-465A-816B-D85BF939B229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标题 1"/>
          <p:cNvSpPr/>
          <p:nvPr/>
        </p:nvSpPr>
        <p:spPr>
          <a:xfrm>
            <a:off x="571680" y="357120"/>
            <a:ext cx="8003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当发现有人溺水，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6" descr="1W_0630013X5[1]"/>
          <p:cNvPicPr/>
          <p:nvPr/>
        </p:nvPicPr>
        <p:blipFill>
          <a:blip r:embed="rId2"/>
          <a:stretch/>
        </p:blipFill>
        <p:spPr>
          <a:xfrm>
            <a:off x="4286160" y="2714760"/>
            <a:ext cx="4465800" cy="34812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"/>
          <p:cNvSpPr/>
          <p:nvPr/>
        </p:nvSpPr>
        <p:spPr>
          <a:xfrm>
            <a:off x="1285920" y="928800"/>
            <a:ext cx="678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宋体"/>
                <a:ea typeface="华文宋体"/>
              </a:rPr>
              <a:t>首先立即报警，再采用急救措施。急救方法如下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21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二：若没有救护器材，会游泳者可以入水直接救护。接近溺水者时要转动他的髋部，使其背向自己然后拖运。拖运时通常采用侧泳或仰泳拖运法。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14" name="Picture 6" descr="s_45b19ff9e2394e7e101d514f867a8a9111414[1]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418280"/>
          </a:xfrm>
          <a:prstGeom prst="rect">
            <a:avLst/>
          </a:prstGeom>
          <a:ln w="0">
            <a:noFill/>
          </a:ln>
        </p:spPr>
      </p:pic>
      <p:sp>
        <p:nvSpPr>
          <p:cNvPr id="71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CC7-5B80-455C-AFAA-11F2E447C93E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8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原地大声呼救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2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跑去找大人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3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拨打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1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（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2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）急救电话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ranklin Gothic Book"/>
              </a:rPr>
              <a:t>4</a:t>
            </a:r>
            <a:r>
              <a:rPr b="1" lang="zh-CN" sz="4000" spc="-1" strike="noStrike">
                <a:solidFill>
                  <a:srgbClr val="c00000"/>
                </a:solidFill>
                <a:latin typeface="Franklin Gothic Book"/>
              </a:rPr>
              <a:t>、没有绝对把握，不要冒险救人，以免造成更大恶果！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看到有人溺水时我们该怎么办？</a:t>
            </a: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将溺水者救上岸后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若溺者口鼻中有淤泥、杂草和呕吐物，首先应清除，保持上呼吸道的通畅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溺者若已喝了大量的水，救护者可一腿跪着，另一腿屈膝，将溺者腹部放在屈膝的大腿上，一手扶着溺者的头，将他的嘴向下，另一手压在背部，使水排出。（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伏膝倒水法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E62-0E25-46C5-A67F-A829824BF5E4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内容占位符 3" descr="急救姿势.jpg"/>
          <p:cNvPicPr/>
          <p:nvPr/>
        </p:nvPicPr>
        <p:blipFill>
          <a:blip r:embed="rId1"/>
          <a:stretch/>
        </p:blipFill>
        <p:spPr>
          <a:xfrm>
            <a:off x="357120" y="928800"/>
            <a:ext cx="3429000" cy="55782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" descr="伏膝倒水法.jpg"/>
          <p:cNvPicPr/>
          <p:nvPr/>
        </p:nvPicPr>
        <p:blipFill>
          <a:blip r:embed="rId2"/>
          <a:stretch/>
        </p:blipFill>
        <p:spPr>
          <a:xfrm>
            <a:off x="3857760" y="121428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000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）若是溺者已昏迷，呼吸很弱或停止呼吸，做完上述处理外，要进行人工呼吸。可使溺者仰卧，救护者在身旁用一手捏住溺者的鼻子，另一手托着他的下颚，吸一口气，然后用嘴对着溺者的嘴将气吹入。吹完一口气后，离开溺者的嘴，同时松开捏鼻子的手，并用手压一下溺者的胸部，帮助他呼气。如此有规律地反复进行，每分钟约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次，开始时可稍慢，以后可适当加快。（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人工呼吸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不要坐等医生到来或不经处理直接送医院，丧失最初宝贵的抢救时机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4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BE7-D0E4-4E67-9197-7BA3DCFF50D8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6200" y="259920"/>
            <a:ext cx="324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Franklin Gothic Medium"/>
              </a:rPr>
              <a:t>中国溺水死亡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93480" y="1988640"/>
            <a:ext cx="8072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中国卫生部发表的数字显示，中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7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人溺水死亡，相当于每天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多人；卫生组织估计，实际数字可能高一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全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非正常死亡，平均每天约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死于溺水、交通或食物中毒等事故，溺水和交通居意外死亡前两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3924360" y="0"/>
            <a:ext cx="4033440" cy="1441440"/>
            <a:chOff x="3924360" y="0"/>
            <a:chExt cx="4033440" cy="1441440"/>
          </a:xfrm>
        </p:grpSpPr>
        <p:sp>
          <p:nvSpPr>
            <p:cNvPr id="645" name="WordArt 5"/>
            <p:cNvSpPr txBox="1"/>
            <p:nvPr/>
          </p:nvSpPr>
          <p:spPr>
            <a:xfrm>
              <a:off x="3924360" y="438840"/>
              <a:ext cx="3159720" cy="100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数  据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46" name="AutoShape 6"/>
            <p:cNvSpPr/>
            <p:nvPr/>
          </p:nvSpPr>
          <p:spPr>
            <a:xfrm>
              <a:off x="7420320" y="438840"/>
              <a:ext cx="537480" cy="81432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7"/>
            <p:cNvSpPr/>
            <p:nvPr/>
          </p:nvSpPr>
          <p:spPr>
            <a:xfrm>
              <a:off x="7084080" y="0"/>
              <a:ext cx="672120" cy="81468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14440" y="5928840"/>
            <a:ext cx="2857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图</a:t>
            </a:r>
            <a:r>
              <a:rPr b="0" lang="en-US" sz="2800" spc="-1" strike="noStrike">
                <a:solidFill>
                  <a:srgbClr val="2f2f2f"/>
                </a:solidFill>
                <a:latin typeface="Franklin Gothic Medium"/>
              </a:rPr>
              <a:t>3    </a:t>
            </a: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人工呼吸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7786800" cy="5500440"/>
          </a:xfrm>
          <a:prstGeom prst="rect">
            <a:avLst/>
          </a:prstGeom>
          <a:ln w="0">
            <a:noFill/>
          </a:ln>
        </p:spPr>
      </p:pic>
      <p:sp>
        <p:nvSpPr>
          <p:cNvPr id="72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0F4-1DCD-4053-A670-205EB33C6D0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标题 1"/>
          <p:cNvSpPr/>
          <p:nvPr/>
        </p:nvSpPr>
        <p:spPr>
          <a:xfrm>
            <a:off x="3000240" y="57862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胸外心脏挤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游泳小常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必须在家长（监护人）的带领下去游泳。单身一人去游泳最容易出问题，如果你的同伴不是家长（成年人），在出现险情时，很难保证能够得到妥善的救助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身体患病者不要去游泳。中耳炎、心脏病、皮肤病、肝、肾疾病、高血压、癫痫、红眼病等慢性疾病患者，及感冒、发热、精神疲倦，身体无力都不要去游泳，因为上述病人参加游泳运动，不但容易加重病情，而且还容易发生抽筋、意外昏迷，危及生命。传染病患者易把病传染给别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参加强体力劳动或剧烈运动后，不能立即跳进水中游泳，尤其是在满身大汗，浑身发热的情况下，不可以立即下水，否则易引起抽筋、感冒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被污染的（水质不好）河流、水库、有急流处、两条河流的交汇处以及落差的河流湖泊，均不宜游泳。一般来说，凡是水况不不明的江河湖泊都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恶劣天气如雷雨、刮风、天气突变等情况下，也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安全承诺书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私自下河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擅自与同学结伴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在无安全设施、无救护人员的水域玩耍、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056-4BD0-41D9-A4D7-828E3DA273E9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22200" y="1600200"/>
            <a:ext cx="8499600" cy="427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无论是假期在家或在校园，都必须谨慎下水，切莫掉以轻心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77840" y="1599840"/>
            <a:ext cx="8788320" cy="507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除了溺水，还有其它许许多多会造成伤亡的可能，追逐打闹、打架斗殴、恶作剧等都有可能对自己和他人造成严重伤害！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生命有时候是很脆弱的</a:t>
            </a:r>
            <a:r>
              <a:rPr b="1" lang="en-US" sz="5400" spc="-1" strike="noStrike">
                <a:solidFill>
                  <a:srgbClr val="ff6600"/>
                </a:solidFill>
                <a:latin typeface="Franklin Gothic Book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44" name="Picture 4" descr="无标题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086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5"/>
          <p:cNvSpPr/>
          <p:nvPr/>
        </p:nvSpPr>
        <p:spPr>
          <a:xfrm>
            <a:off x="380880" y="1676520"/>
            <a:ext cx="8458200" cy="2895480"/>
          </a:xfrm>
          <a:prstGeom prst="rect">
            <a:avLst/>
          </a:prstGeom>
          <a:solidFill>
            <a:srgbClr val="00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让我们</a:t>
            </a:r>
            <a:br>
              <a:rPr sz="9600"/>
            </a:b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  善待生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专家意见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5676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专家指出，通过安全教育，提高我们的自我保护能力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的意外伤害事故是可以避免的。而导致悲剧发生的一个重要原因，就是我们的欠缺安全防卫知识，自我保护能力差。因此学生学习安全防卫知识，提高自我保护能力，是非常必要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Medium"/>
              </a:rPr>
              <a:t>2016</a:t>
            </a:r>
            <a:r>
              <a:rPr b="0" lang="zh-CN" sz="3600" spc="-1" strike="noStrike">
                <a:solidFill>
                  <a:srgbClr val="ff0000"/>
                </a:solidFill>
                <a:latin typeface="Franklin Gothic Medium"/>
              </a:rPr>
              <a:t>年广东连续发生的学生溺水事故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466560" y="1700280"/>
            <a:ext cx="821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汕头潮南区一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男青年和几名朋友相约，到当地的秋风岭水库游泳戏水。一男青年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揭阳新华中学高三毕业生谢某武等十多名同学，相约到砲台风门古径游玩。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到南陇水库玩水，期间发生溺水事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经抢救无效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湛江徐闻县下洋镇上湖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小学生到村口一废弃烧砖水堀里钓鱼，其中一人不慎跌落水堀中，另外两人见状急忙跳下去救人，不幸先后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538200" y="260280"/>
            <a:ext cx="7851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了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孩子非正常死亡头号杀手其实就是溺水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老师虽然警告学生不要玩水，不在江河边玩耍的，但这种警告往往不被孩子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统计发现，溺水事故多发生在周末、节假日或放学后。多发生在无人看管的江河、池塘等野外水域；多发生在学生自行结伴游玩的过程中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溺水伤亡率明显高于初高中学生，男生居多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得注意的是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5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溺亡事故都发生在农村，溺亡学生大多是留守儿童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结论具有普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4" name="Picture 5" descr="xin_140703051532484434817"/>
          <p:cNvPicPr/>
          <p:nvPr/>
        </p:nvPicPr>
        <p:blipFill>
          <a:blip r:embed="rId1"/>
          <a:stretch/>
        </p:blipFill>
        <p:spPr>
          <a:xfrm>
            <a:off x="1828800" y="12398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溺水身亡，瞬间生命消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7" name="Picture 5" descr="xin_530803020658562191805"/>
          <p:cNvPicPr/>
          <p:nvPr/>
        </p:nvPicPr>
        <p:blipFill>
          <a:blip r:embed="rId1"/>
          <a:stretch/>
        </p:blipFill>
        <p:spPr>
          <a:xfrm>
            <a:off x="1905120" y="1452600"/>
            <a:ext cx="5638680" cy="37497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6"/>
          <p:cNvSpPr/>
          <p:nvPr/>
        </p:nvSpPr>
        <p:spPr>
          <a:xfrm>
            <a:off x="3840120" y="5638680"/>
            <a:ext cx="14000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捞现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0" name="Picture 5" descr="200807250047_188140"/>
          <p:cNvPicPr/>
          <p:nvPr/>
        </p:nvPicPr>
        <p:blipFill>
          <a:blip r:embed="rId1"/>
          <a:stretch/>
        </p:blipFill>
        <p:spPr>
          <a:xfrm>
            <a:off x="457200" y="914400"/>
            <a:ext cx="8220240" cy="591804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3109320" y="601992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听劝告，又奈何之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7:02:00Z</dcterms:created>
  <dc:creator>ldx</dc:creator>
  <dc:description/>
  <dc:language>en-US</dc:language>
  <cp:lastModifiedBy>Administrator</cp:lastModifiedBy>
  <dcterms:modified xsi:type="dcterms:W3CDTF">2017-04-26T03:16:19Z</dcterms:modified>
  <cp:revision>83</cp:revision>
  <dc:subject/>
  <dc:title>安全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